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50C6-5996-4EB9-8DD8-3501E5B82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chose the Bubble Map to show adjectives that depict themes and ideas of a short story, “La Rama Seca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compared differences and similarities of two short stories written by Gabriel García Márquez by using the Double Bubble.  They then wrote a composition comparing and analyzing both sto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udents read “La Casa de Bernarda”, by Federico Garcia Lorca and drew a Flow Map to show sequence of ev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88A8-6EFD-4389-893A-2F0F31A62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44F-D076-4643-8681-0573EFCE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A638-8BD7-41C1-B08F-2339C95DB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DB72-86BE-4156-9E95-B8C81C4B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4AF6-5D0F-4819-873A-419E75BCD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31EE1-1560-45B9-92D2-10DC448B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EA21-20A7-4224-879B-210474A1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5E07-7C83-4FD3-9127-B88E759AF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565E-CB3B-4B2F-AF30-E89F52B5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4A8-C092-4AF4-AF25-BED8F10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CA39-2D77-4D78-8C69-EBEEFFDCF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2A44-5B12-4F2D-B2A7-F68CD573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126A-F1E5-400D-971B-B48FBDEE0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4214" b="2948"/>
          <a:stretch/>
        </p:blipFill>
        <p:spPr>
          <a:xfrm>
            <a:off x="193680" y="82440"/>
            <a:ext cx="8686800" cy="68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jectives and adjective phrases that reflect the idea of a s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3505320"/>
            <a:ext cx="152388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loro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981080" y="1676520"/>
            <a:ext cx="16002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ign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72200" y="1676520"/>
            <a:ext cx="160020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ser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bre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3505320"/>
            <a:ext cx="160020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m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5257800"/>
            <a:ext cx="15238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stál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4419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486040" y="4343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52680" y="30481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3657600" y="487656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8769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5409720" y="4572000"/>
            <a:ext cx="129564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5257440" y="3124080"/>
            <a:ext cx="11430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87692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3505320"/>
            <a:ext cx="160020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91120" y="5486400"/>
            <a:ext cx="15238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res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00800" y="5257800"/>
            <a:ext cx="16002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á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ha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14800" y="1600200"/>
            <a:ext cx="144792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8600" y="15228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PANISH 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edo,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 flipV="1">
            <a:off x="3124080" y="3580920"/>
            <a:ext cx="6098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9520" y="228564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2514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447920" y="4647960"/>
            <a:ext cx="761760" cy="99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42670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371600" y="3200400"/>
            <a:ext cx="6094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3276720"/>
            <a:ext cx="1447920" cy="1600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2819160" y="4800600"/>
            <a:ext cx="99036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33920" y="5715000"/>
            <a:ext cx="1447560" cy="114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2590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6781680" y="4648320"/>
            <a:ext cx="9144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7010280" y="2819520"/>
            <a:ext cx="106704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819160" y="0"/>
            <a:ext cx="60958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uble Bubb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3733920"/>
            <a:ext cx="129528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er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657600" y="1219320"/>
            <a:ext cx="16002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es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2133720"/>
            <a:ext cx="129528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vía de s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uer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828800" y="1600200"/>
            <a:ext cx="137160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oyo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hi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5410080"/>
            <a:ext cx="1371600" cy="1447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bier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 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s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1371600"/>
            <a:ext cx="13716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j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ej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72400" y="1752480"/>
            <a:ext cx="13716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bier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up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96080" y="3581280"/>
            <a:ext cx="144792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 mue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i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315200" y="5257800"/>
            <a:ext cx="13716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 sueñ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 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d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4952880" y="2438280"/>
            <a:ext cx="106704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76920" y="350532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5029200" y="4572000"/>
            <a:ext cx="83808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5181480" y="4647960"/>
            <a:ext cx="106704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7009920" y="426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42900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120" y="3962520"/>
            <a:ext cx="121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048120" y="4572000"/>
            <a:ext cx="8380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8800" y="3429000"/>
            <a:ext cx="15238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arg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 t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nambul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05320" y="601992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lla se 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uenta del  f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yphna Galvan and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andra Maci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3276720"/>
            <a:ext cx="144792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ud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nti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57600" y="4191120"/>
            <a:ext cx="1371600" cy="1371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cas ga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 viv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2819520"/>
            <a:ext cx="129528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j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52280"/>
            <a:ext cx="426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PANISH 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tin High 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edo,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rcRect l="8333" t="19448" r="12500" b="13893"/>
          <a:stretch/>
        </p:blipFill>
        <p:spPr>
          <a:xfrm>
            <a:off x="762120" y="304920"/>
            <a:ext cx="7962840" cy="50292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828800" y="53053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AR-UP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2539" r="0" b="8570"/>
          <a:stretch/>
        </p:blipFill>
        <p:spPr>
          <a:xfrm>
            <a:off x="380880" y="914400"/>
            <a:ext cx="8458200" cy="5638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2438280" y="0"/>
            <a:ext cx="464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urlz MT"/>
              </a:rPr>
              <a:t>Sanchez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rcRect l="0" t="15959" r="0" b="20223"/>
          <a:stretch/>
        </p:blipFill>
        <p:spPr>
          <a:xfrm>
            <a:off x="990720" y="685800"/>
            <a:ext cx="7316640" cy="548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>
            <a:lum bright="6000"/>
          </a:blip>
          <a:srcRect l="4167" t="5556" r="10420" b="8337"/>
          <a:stretch/>
        </p:blipFill>
        <p:spPr>
          <a:xfrm>
            <a:off x="0" y="0"/>
            <a:ext cx="9144000" cy="69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514600" y="4114800"/>
            <a:ext cx="632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6095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map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9154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renda Ruiz and San Juanita Saldiv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05320" y="3429000"/>
            <a:ext cx="19047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tirio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fren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 Ad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8280" y="2209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5120" y="60958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6019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63120" y="2286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763120" y="20574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99840" y="3200400"/>
            <a:ext cx="716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077320" y="2057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600200" y="32004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1600200" y="5105520"/>
            <a:ext cx="7238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8390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00200" y="510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5334120"/>
            <a:ext cx="19047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i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ere imped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  Adela sal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verce con Pe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657600" y="5334120"/>
            <a:ext cx="190512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lean y Bernar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 da cuenta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 dispara a Pe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352680"/>
            <a:ext cx="190476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mbién Marti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fiesa que 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i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1523880"/>
            <a:ext cx="205740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uto po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erte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1523880"/>
            <a:ext cx="17528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gustias 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 a cas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 Pe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Ro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629400" y="1447920"/>
            <a:ext cx="16002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la 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iere p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die sa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e se ve con 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581280"/>
            <a:ext cx="198144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tirio se 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enta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ición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e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781680" y="5334120"/>
            <a:ext cx="17528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ela cree q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pe esta mu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se suic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28600" y="152280"/>
            <a:ext cx="426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 SPANISH L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edo, T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0" t="5556" r="16667" b="17594"/>
          <a:stretch/>
        </p:blipFill>
        <p:spPr>
          <a:xfrm>
            <a:off x="609480" y="304920"/>
            <a:ext cx="7772400" cy="53751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19520" y="5305320"/>
            <a:ext cx="327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AR-UP SCH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X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5:58:59Z</dcterms:created>
  <dc:creator>Chris Yeager</dc:creator>
  <dc:description/>
  <dc:language>en-US</dc:language>
  <cp:lastModifiedBy>Chris Yeager</cp:lastModifiedBy>
  <dcterms:modified xsi:type="dcterms:W3CDTF">2007-12-12T15:59:20Z</dcterms:modified>
  <cp:revision>1</cp:revision>
  <dc:subject/>
  <dc:title>Slide 1</dc:title>
</cp:coreProperties>
</file>